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48B-B4C4-44EA-B4C6-1BDB7C12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3C87-FA5C-4980-AE04-62B9B4CC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E139B-AED4-4BE2-95C1-63E7BDE1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A0755-3882-4B01-8C25-1247288D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DD48C-9538-401E-9527-6836FD91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368FC-6466-4EE9-A740-C6A7AA9C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C7B0A-1D98-4F75-A342-07D079E0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5694C-D348-4D1A-AF32-9DD74856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167B8-FC87-447E-8F5D-512901F3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5AC7F-6ED8-48CE-9052-8B951BFC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6F238-EAFA-4C0E-8147-E965E738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4C220-3722-4595-8EDE-F0DAB886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E53E-B8E0-429F-B84A-72BE3B30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E8467-C71C-4BBD-A297-84842AA8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DFD4F-4CDA-41D8-B537-BA97C48E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F232E-0353-47B5-9F1D-8E3D8FE4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3169F-57C4-4E0B-B5A7-DCBEDBBA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53BD8-74B3-455E-B9C2-41AD2DB3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38A5F-075C-4FE6-816C-758B7AEA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DB11C-F465-4CF8-A19B-33AEE2F4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EBDA9-7342-436E-9B69-CF86495B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4DDDA-7DB2-4717-AF50-38593893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341CE-C734-40FB-9390-2D13934B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FF21-16A4-42CF-9B8C-B5738F78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EA58C-7D31-45D5-A6CC-995FB81B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B970E-2C5C-4909-8D68-4C8BE9B3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28E6A-2FE9-45B3-9F93-64A4F4B6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2F61E-CB76-4846-9CB9-4C6F4F33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E2265-EAF0-4005-8854-AAE74B31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8094B-F5D1-4FBA-9570-16107658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1062A-B275-4E9B-8981-2EFB7A34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23B43-283C-41BA-A620-BDEF920C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29C7C-9584-4B29-95F0-4943ED1B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A8296-F9AE-4F33-B651-7C025A92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BFFA-DAA6-4D8A-8232-0EED63C0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F90A9-999F-412D-8F91-6E404A63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11447-0FFB-47CA-AF55-98B1EC50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243AE-36B1-41D0-A433-AEAC5840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382C7-446F-4A23-A69F-C912396A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71D92-2903-42A5-AD67-3DABBF4D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ED929-1DDC-498D-8F8C-4E48C57B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A41DE-E35F-4E7C-9627-3D47470D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D46FD-174B-47D8-97A7-BA0755FC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53E15-3BA4-4D3E-AEF9-3E208D36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1DB6C-0BCF-4D41-B480-901C2055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68C3-9219-4597-B170-616A67EC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EA4C8-314D-4B02-883A-5BD8E625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1A809-0172-49B5-B1F9-62367FD6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21A46-BC7B-428C-B953-E00074B8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B9F3B-13B8-4CB7-865B-22DB9282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3228A-6A6F-49A3-B874-91D50191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FCD803-40A9-4489-B0D8-AA984E02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B4EF8-534E-4A84-A607-1161EDF3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F78CEB-5E5B-42FF-8C8F-85465295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56529-3643-4517-9B84-D0DD8181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430249-462F-4020-B0C4-38A06A51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22AB-FD80-42C6-B7D5-160920E4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AF5980-B3F8-44F7-A0C9-A0C71FAE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D116E-997C-48D9-8417-50B5D2C1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CE8B0-2DFF-4532-BF4C-D2D619EA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47A929-1EA1-4BC3-B499-B40068E0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97B0D1-FFD4-4C9A-A212-F8015548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336A7-38E3-40DE-A2CF-D1E49B59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F23742-2194-4A37-BE7D-D69E328A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CF46F8-AF9F-4C85-9D86-F4C71457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D3F731-4384-40DE-8F39-8927FFFE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047E5-AA26-428F-9573-E87D9254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C33C-D18C-44BC-A389-711583D0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28310D-FA4F-4C79-8E10-65FD167F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3A03AF-58EB-4785-90D6-2BCB88CA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70A577-91CF-4943-959C-4A4823EF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5DF6D3-F2E4-45AC-89B4-66FEEB1B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B75F44-FEC2-432E-92F2-9ABFA42B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2D7252-3B83-4BB2-AA8E-EA7DA75C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781793-28AB-44EA-9CFD-ED51F615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715AE6-40F1-42EE-8EFB-1ED37E70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11EB01-DB42-47CA-933F-4B05A59B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CC5E18-9412-4877-8EFC-2C8B0D79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C896-F69D-4867-8640-F50B069D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8FF9BC-974B-4479-A65F-8819FA71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25BE6F-E910-4F06-9D65-472ADCAC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DBF497-B185-4F76-AF06-8A594868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804A12-F10E-4297-BF03-457C0167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57993B-B9FE-4C29-A3B0-26884B66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F39E67-06C9-4237-ABB1-40B1229D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27C518-F134-48CD-8A2D-9B3D75FE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A12092-0891-4735-B423-3A1F9A49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745DA4-F96B-4CB6-8FCE-A3567086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FEEB70-CB42-412E-8EE2-9A0EF955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C2E7-7596-46A4-AB1A-FFD9B343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770620-F9F5-4A03-9D1C-C5DFA0CE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46923B-E132-4952-8F51-8E8A43AA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CC4349-F354-435A-A97E-7EBE3554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3656E9-C925-4ADB-B8EE-E00DAC14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C0B878-2575-4D31-8C42-C5183DCA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86DAEE-B492-4132-A9BD-28AA098B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1678E0-1B6F-4094-8189-DE93B64C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43DC80-D0E2-456D-9622-9BFD652B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9472D5-42CB-4EC3-B8DA-5E39747F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3BE5D0-80B1-489B-8420-9CBF9484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5922-AB03-4CDC-95C7-770AE9C6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D64BD0-6092-4F5F-950C-5711750F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C328D6-A180-4A3A-8F0B-33FB90DB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707FFA-1F51-4E9C-B8C2-1DD60F59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88CA95-F74F-4E21-A54D-2DD3DE28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1225E9-C327-4245-89C5-DAD2E695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BD4F41-0A47-4C3E-AFC6-311474A3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208C39-1B22-400A-84DB-D4E050D4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7AE61E-937B-41DC-9377-2D41C1AC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C39813-A4FB-48BB-858C-6E4050E0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EBE439-B6C4-4122-BB3E-24493E02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B21B-BB98-4B60-AD37-B11501F5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4BFF-BBA4-4BC7-86B3-EB0EAE6C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38CF40-A534-4896-B23F-D4E6C93A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BEB180-DE02-468D-A533-8BB95912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496832-4DD1-48F3-B370-4ACE8DE7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ACE120-0851-42A5-9DCD-7A66A5C8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4CADBB-38E7-4792-BF74-BD6B6496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734ED0-AFB2-43B9-BE41-4071E948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6402F3-CEA9-49B3-A21A-AD886290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E987C9-01EA-4A15-99FF-E71A0AA3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C1BFE0-96CD-45D9-B150-EC61F7AE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13D62E-C4D4-4C91-BD2E-D79F396C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44F1-70DC-467C-817C-C79C3043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8E28F9-8D9F-4B22-BC0C-FFC99695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6AE4E4-B309-41D5-9850-280EB490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F037D4-976B-4004-9F83-B59911CD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0ED1CF-8F7A-4AEC-BB8E-BC75E87E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FB950E-8B79-4EF9-8358-16B18EDF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DDBF5E-6601-4C49-B13B-98CFA47C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8DCD4E-6F00-461E-8762-A25AB044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E7ACBA-A81C-4214-B068-E3504E34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041777-09DA-43C7-8C2A-27DF37BD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04A42E-1BE2-42BF-9D8D-42035D76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6C03-934A-4FD9-BE55-FC1BD146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1FACB0-4FC1-411F-8694-9283DC72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DFFFC9-2186-4DBB-8A89-B5EDA5EA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7FA7C6-ED45-41D9-991F-347C29CF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820AC1-97C9-4BED-AFEC-E834E301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FB00E7-4880-4EE5-9600-0FD3C6CF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D232F0-8ADD-4FFB-A2B2-265411C0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689BB5-BB6B-400E-8266-BED2BC06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294429-E4D4-4937-B6FA-AC03B79E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80FBC9-1E2B-4975-B4A5-2900B0C1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211D25-139E-4D35-ABAC-9A050C82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DB51-FD22-4389-8E31-661A96C2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DCA865-3C76-43BB-BEB3-46F6602D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3B7F31-5EA5-4332-BAF5-27604283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AB6135-C4DD-4D1E-8C69-8BD31A3F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C2F581-0859-45B7-A047-23EBDBB1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0CE1CB-1A73-4569-92DF-99283BA8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7EE269-4D43-410E-B3CF-8F3D783D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322D3F-30CF-476F-ABA8-F5617EF3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A939A2-7C80-4813-904D-CE542E62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CE9269-FD24-42A7-BB04-B6091DB7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A30CA0-0802-4434-B73E-8A93F466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C6AF-D6BF-4980-957A-3453719F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56DA59-7CF5-4A40-A061-F586BE05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9EAF7D-C92E-4593-AC74-CAF93749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DDE3EB-DEE7-492C-BB21-9F3F890E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1F846F-673D-4501-A4E8-DB1DAB3D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20BA23-FE6E-4633-AF60-57BF455E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577CD9-3BB2-4AAC-B5A8-FC951F66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DB5E34-E218-40C0-9967-7EC6C712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7CDD65-3FE1-4666-9601-588D58F6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A311AA-57FB-4FC1-95EE-AB1E20F9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824537-1207-4AD2-A1AB-A19F5B6F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DAE01-48CB-4CA5-A38A-F0359A0D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3C1385-3C88-485F-A6EA-92AB37FD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8D9315-F40A-4489-A2FC-9C669795B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8660B6-851F-4DFF-96AF-30DF7D6D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6DB0FE-AB08-4D7F-B6F3-F3B82594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AFAC02-C8EC-4834-86CE-403E4B46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89058C-807A-40EC-8AAF-98A44A7A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DF9E62-F66C-41DF-AF05-BFDDAA35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437D93-22E8-4A13-998E-D0CFBC4B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230BDC-ED48-43AA-AA63-C88B0E1F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569938-2C62-4E42-A493-5957CC82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5843D-BDF7-48D0-B06C-C7E909E5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294958-02C9-4E98-908F-120D5125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C15EEB-3C76-405A-A7D6-AFE68EF3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501DF1-B46F-44E6-A12E-8B4374D9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878DAD-6BDF-4FA0-B99B-AC64DE0A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DABBCD-9773-462B-92D3-BED3EB5E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75591D-FA63-40A8-84B2-6FAB34B2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711A20-DD70-41A3-8DF3-42D6A2CA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F8DD47-A847-4663-AA48-E5730250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5DACD4-F97A-4926-878B-3AC3BE50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FF3EF4-B620-4706-9920-1D8D8CF7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F9720-5C95-407C-82D8-A9457FE8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40AB92-809D-49B8-914B-7737F9B1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6C57D1-EB1F-4E4D-AA06-13332D63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092376-0026-49A2-83B4-07027653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C42DE9-3B8D-4202-83C2-FE7EFB52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945F18-AE8B-4936-A9A7-A44F34C9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C34097-E894-476C-9A9D-6C0B997F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08B1A8-4789-4927-BB8C-1472266F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8911BF-DDB7-47F7-88AF-54ABE7F0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371436-B4C2-4E5C-8C84-70ADBA09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D543B8-2650-479E-9955-9B8F9C04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65118-95B0-4743-AD32-DDF36D85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BA2A92-90E1-49D2-932F-34A1E4B4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B5235F-B023-4580-923B-36189BEF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D8EAFB-DA74-4776-97A9-69A51DD0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293B45-A2D6-4779-BEDB-13D1E74A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95A2B8-5FA4-4853-AD72-924DC5D0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3373B5-C821-4162-A4C6-D85B415E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6C3E33-F35A-4434-969E-AB7A778F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37B982-550A-4FC6-9D22-EBFE8D6F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BD8958-762D-475F-BF3D-9E2A3280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5BD7D5-B246-4A3F-8484-A02CDF56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77E34-521E-4174-B2BE-0D063934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67412F-05A9-4B9E-8A30-966438F8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2C13E7-8131-477A-B058-72C95862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3F241D-920F-47B9-8F96-88CF627A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3C498C-146D-4202-B25C-4279F85C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6219C3-DD33-4BB2-8290-0799CF0B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D1610F-E9BE-4CA9-8FE4-8528B639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55ADD1-0670-40CA-B96B-AE8CF66B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28E2F6-F125-4C61-9BEA-07A767FD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8C84C0-C8EA-4006-BCFF-68B90AAE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0C17D9-CFD0-487B-878B-E4215161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856D-5EBE-4B5E-8C5D-742F79D9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CDE29-DCC9-419E-AF63-FCD1057B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796E2A-8942-4D18-A2BB-179FDA71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26C60B-A786-485D-A60C-AAEE0A2A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6CF4F6-9840-4EA8-A637-5860590B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7315DD-1D37-4C0A-896B-275CD9C7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47F903-665E-44FD-A41A-D72B29E7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7D4E26-05F8-4088-B6F1-432D5CDF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CB575D-F36C-46FE-A3D8-54B3363B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908503-6D23-4890-AF1C-01ED855B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0088ED-9DE6-4CCD-815E-A3695601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408DDE-B48C-40D7-8534-F5030ADA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41CFD-A95B-44A8-BDE2-A0E8AA39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2B7992-A075-4ABF-9DBF-3B3C0493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20F07F-C627-485A-9083-31CBA0C3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EE65BD-1958-4825-89BC-5B1AD293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C43300-AD74-4968-8BD4-F73821E2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2D2597-70F8-4BDF-A9A3-78B9A6D3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05B81F-3943-4E19-8FE0-D51D3C1D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8B8582-A95D-4FD0-860F-862A4B28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160D53-11C9-4EED-BB12-1F733C27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64B7CA-1986-4EC9-A858-36F9D219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372348-CFFF-4FEC-89C8-E4FD853A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8EDA9-F79A-4089-BAB9-0A7DC902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46CE84-D5DF-47D9-A619-ECCB3617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3628A1-4AE8-47F4-BF8D-546B5DD8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AC72B2-F2CD-4C7B-AE58-B8615096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CD6B75-E1E1-4DA4-9C95-CC719B26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51C516-D8B0-42F2-9706-2C865C4C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F375A1-49AE-4B19-AF9A-02C73464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DE6F7D-6AA8-4467-8520-A61D4AC6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5CBD91-05E8-44DB-9262-08AA03CD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DE4870-70A7-4643-BF14-885CD07B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AA9EF9-B96A-4B5C-A58B-BCEDCCAE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F2036-538C-4EEA-9895-C71CBD16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CAAB4C-516F-4592-A5E7-4CF10FB1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227293-E557-4D23-875A-0C06A8AD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7A7A7A-17D1-4FD8-BC13-F037BB68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D50A19-543E-4755-ADFA-134C44E4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12D7CB-F816-4F6A-8B47-4117AEED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2768D1-BACF-43B3-858C-7D8B9795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728F40-0BD0-4CF1-9B16-19C1E1F4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A59D10-5D69-4D50-87DC-5D226B8E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9B82FF-8DDA-4E1A-BD04-E471B92D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F7E14C-3FC0-476C-8F6A-7BA2526A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3A581-5E98-4BE7-B111-4B995455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149C81-F2F9-4615-803C-5AF8A815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871161-F919-406D-A4DE-54AEC8EC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76EBC6-FD7A-442F-AFCA-EE1A0BA0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A24675-3CFC-42BC-BC42-29D8A857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52802F-7958-4E6E-991A-2D764F36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B028FF-9396-4CBD-831F-ABB884FE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8A800C-2C3C-4693-9EA4-74E02B35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45AB44-E734-4518-8F50-2C83EA26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454820-59BE-4ADD-9887-FFC84DBA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0E1E55-8CA6-4A4F-BAA1-1A573EE3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4E214-056C-4D25-976C-E7918E37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C4E3B0-A4E2-46EB-96B7-C94F0A94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D2629D-2875-44F0-8EA3-4CFFE8BA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DC93C9-650F-45F1-ADE2-4E7A6955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C5EB7E-F17D-42AA-8728-1658DB16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464399-59D5-4DCF-A999-375338BA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F3CD85-3BC3-4006-903D-C044DFF7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4E9CD4-6F76-4CDC-ACBA-366DD096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D0A05A-72F1-4AA0-8507-CED02377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B2E1CD-E7E7-494D-A689-D866EE22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77E7F0-BFBA-4573-836E-4517127D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C8BEF-14B7-40A4-84E1-614DBABE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821F0C-11D9-4AD1-8D0B-9C5273BF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106868-DDF6-4975-9B24-9E0D80BF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794718-0F08-413B-B201-EF757EA9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72A529-82AD-4BB6-86ED-A2F311E2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74DB98-45F8-4492-85E0-BB2F9825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74C502-36F6-4D8A-AE0E-FB101008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8BD7C8-0B10-466C-94DF-945ECB8C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3A6598-479D-42A7-B13A-E0722C43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509D56-9B11-4AB6-A222-DD037A47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7DA6FF-9F24-4225-90B9-9CBD7203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5F198-C978-4C63-9A88-0CB46F7E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A3B1BF-2CFB-4350-9AC1-D67BE033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4BAF38-FD1B-40B6-8A7D-CB4FE1DB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F3A563-5BDA-43E8-94C2-6FC3194D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FE334-27B5-42CB-8CBF-A7DC5038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F3806-BEE9-4361-A2D9-9A987DA3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706A-2013-4173-BC1E-5DDE59E8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57814-4603-4A63-B229-B8428479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0E7E2-836B-4089-8B5A-27737C3D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98FE2-8E2E-4131-B2EB-3B5F38BF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62A59-B6A9-4470-ADB4-704635CC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F7D4C-9EC1-431A-8FB6-B346E01A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5757E-1EB5-4B02-986D-D8483D63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49E71-88CC-4C35-BD7B-DE94F555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81CD3-5AAA-404C-AAC5-9E006BDB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417A7-DBC7-499C-B23E-67626771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8643C-A027-4169-BB3C-BCA59149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DFA9-0F71-4B53-986C-56230C53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0BC1C-F991-4BE9-BCBF-B27009D4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BA15C-47D3-46A0-83D5-55B73B12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B5DA0-5D6B-4FB0-B7EB-A3098CED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D1C26-B49A-4760-B767-64ABD92F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40F81-CFFD-4C1B-A8E3-EA94F889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FF1C2-A738-4732-9C9A-08C8E4C6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319E8-1490-4BBB-8CEB-03538EA6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3B226-AED6-4136-8DC5-0436AC00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4D2FA-7FF5-45E3-A4EC-ACBE88C0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D7F68-C8B1-46FA-A75B-84D87D8E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C847-7106-4665-82FC-3CA94143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C7281-17B0-4534-AE54-6C38C1CE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E9C4E-AB1A-48E1-90D2-7D649328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9D82A-E1B5-461C-954F-BC5550E6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64085-90F6-46D5-835A-0BDCEC9D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9F1B1-86DF-427F-BBBE-9750EFAE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35F69-A27F-4FB7-AB48-6E199863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A85A2-88E3-4F0E-A534-BBE78F29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83720-CE8E-4B0A-92D5-D90D9B4A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DE6D5-688F-42B7-8008-D34F22E3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4B240-5888-4D95-9A4C-B5080625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E63-6039-4E6B-BC30-3BAFB518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6568D-71EF-4EB6-B2B6-E16AD255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7E6B9-4AC7-4A6E-A3BB-90E2F471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E2773-A62C-4C09-BFD5-D1B4C47B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1AB85-971C-4A32-B729-122FB8CB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7082C-4AD7-40AC-98D4-ED858EB3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09F88-A854-4B14-B4CE-9EE2FB15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D5901-2D5D-433B-976E-22EB93E2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330D7-3A5D-496B-90E8-BFF10671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8B171-829D-4CFB-A765-E0C227B2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9A8FB-84A8-4C9D-BE15-1373D532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050-A9AB-4370-8733-CC16E7A4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71EEB-5D68-4DC7-BDB9-380106AC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AF6E3-076D-4A55-945D-471B1B00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8D611-134A-4C26-9313-780D7ECE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4A011-BE08-4C54-814D-B723F6F6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C2E12-742B-4A90-BD17-BA19767E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EA30C-87DB-470F-BA15-819E7A70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07652-C6FF-4533-B638-23F0A1EB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D31C8-3F1C-41D5-9C58-1BB3EBA6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4E264-141B-4D2D-9A15-4028D5BA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22338-CDBB-42B8-8D68-500CC0FC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A39-55EE-4ADC-9209-7167F8EE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923ED-F1A2-4E4F-99D4-0B621B50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E8118-7F8A-435F-9F4B-26852364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74F42-E447-4261-889D-461E658F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8086C-463D-4C93-9851-49787262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38B74-C724-413D-A873-AA7AEF53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925D2-FB3A-4D0B-9765-A2F0284F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FAC6F-8CC5-467F-BEC8-7E463BA8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7A43B-7E08-4A6A-8227-CBAD3FA4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AE5CD-336F-4947-9630-10F40A9D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77FA5-D24B-441C-90C9-E4179764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36BA-A82E-468B-BD89-D46AD62420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EC92-4D09-406E-9972-D350AD0BA8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AC43-32A3-4CCE-AB04-03256D6A02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3990-FAD9-4782-BBAC-9E44A662C4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1BCB-7638-480B-AACE-26355B9A36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790A-F645-40A7-86D7-1DDA41A2CC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BE17-3A15-4752-969C-8042AD19EC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3F3C-13B3-4CE4-BB8B-D9EAD9E07C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DA8D-EF0C-416C-81F9-E43FE3DCF5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7D29-844E-4309-9B66-9E4EC6F832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EAB3-772C-4E5F-B95F-D579E52643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57BD-CD96-46DB-B4F5-B05EC5DBDB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214A-8972-4871-9DC6-446FF2D823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EF72-0A11-4114-8031-DFD08C260B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98B1-C248-4C93-A0C4-A720475AD5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075C-341F-4B3E-B2AD-B379F5CB34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C0C4-ECEB-49C6-A818-91C437193B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346C-5757-44AD-A473-92209D07A2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9E6D-E310-4C55-8D0F-F569EBFD11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E0CB-7BCF-4788-8BDE-2D3290975D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6FED-DF15-478E-80F5-6071BC3D75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0336-D95E-4A19-9D7E-E3FDB22FD3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0561-6BBE-4D71-BBF1-9A368E0445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6256-83FA-4071-9E3A-9603E81BB3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1EE4-992E-471F-B92C-F08B17DDA9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FB12-567A-4AA0-AA64-B7CF4FCCCB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189D-18E7-4848-9111-EF89E2DF00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7028-F86F-4F98-BC94-D86BD2B9A2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F80E-2B37-4C49-A8E2-2F7928F91B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B937-3CC9-47D1-86A4-B07038F6A0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2093-B94D-47AF-B407-60D27CE0D3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D8BE-1AB7-4787-B672-49E28319BE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B28E-395E-40B6-96E8-012097E7E0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63E4-D817-4C48-854F-95539E46D5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0BF6-79F8-48EA-BCD6-38494E5C52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8393-3254-4C72-8869-5507FF8682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9A26-1700-4F06-90D2-412E1F9358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94B2-5370-47FB-B675-6C36712F53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0969-64A2-482E-81C4-D657C7CFB5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5BFB-D429-4D89-9D39-7D9C1216D7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A8BE-B73F-4B8C-B48D-B93D426025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294D-9D19-4F1E-962B-C5F1B79945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DE2C-3FFF-474B-B28B-D705090AEB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321B-8CBB-47FD-8D72-28E81A420F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918D-305F-4131-BEB6-15B373A19B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C652-7877-46F0-83E4-7B2DCCD8BB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7B0A-5F04-4B5A-94A7-96937D61EC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8CC5-0985-481D-8639-8A366E362E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4CD9-E530-49B6-869D-C39FB90E8A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FEF9-82EF-4A91-A175-867D33DDF4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556000" y="2492280"/>
            <a:ext cx="3990960" cy="67644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1763640" y="3357720"/>
            <a:ext cx="5600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1" name="图片 116737" descr=""/>
          <p:cNvPicPr/>
          <p:nvPr/>
        </p:nvPicPr>
        <p:blipFill>
          <a:blip r:embed="rId1"/>
          <a:stretch/>
        </p:blipFill>
        <p:spPr>
          <a:xfrm>
            <a:off x="571680" y="1276200"/>
            <a:ext cx="8001000" cy="4305600"/>
          </a:xfrm>
          <a:prstGeom prst="rect">
            <a:avLst/>
          </a:prstGeom>
          <a:ln w="0">
            <a:noFill/>
          </a:ln>
        </p:spPr>
      </p:pic>
      <p:sp>
        <p:nvSpPr>
          <p:cNvPr id="1502" name="矩形 116738"/>
          <p:cNvSpPr/>
          <p:nvPr/>
        </p:nvSpPr>
        <p:spPr>
          <a:xfrm>
            <a:off x="2319480" y="5162400"/>
            <a:ext cx="885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16739"/>
          <p:cNvSpPr/>
          <p:nvPr/>
        </p:nvSpPr>
        <p:spPr>
          <a:xfrm>
            <a:off x="4211640" y="5157720"/>
            <a:ext cx="8859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116740"/>
          <p:cNvSpPr/>
          <p:nvPr/>
        </p:nvSpPr>
        <p:spPr>
          <a:xfrm>
            <a:off x="6227640" y="5157720"/>
            <a:ext cx="8859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5" name="图片 115713" descr=""/>
          <p:cNvPicPr/>
          <p:nvPr/>
        </p:nvPicPr>
        <p:blipFill>
          <a:blip r:embed="rId1"/>
          <a:stretch/>
        </p:blipFill>
        <p:spPr>
          <a:xfrm>
            <a:off x="852480" y="2233440"/>
            <a:ext cx="7439040" cy="2391120"/>
          </a:xfrm>
          <a:prstGeom prst="rect">
            <a:avLst/>
          </a:prstGeom>
          <a:ln w="0">
            <a:noFill/>
          </a:ln>
        </p:spPr>
      </p:pic>
      <p:sp>
        <p:nvSpPr>
          <p:cNvPr id="1506" name="矩形 115714"/>
          <p:cNvSpPr/>
          <p:nvPr/>
        </p:nvSpPr>
        <p:spPr>
          <a:xfrm>
            <a:off x="7558200" y="2286000"/>
            <a:ext cx="7714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15715"/>
          <p:cNvSpPr/>
          <p:nvPr/>
        </p:nvSpPr>
        <p:spPr>
          <a:xfrm>
            <a:off x="1379520" y="2762280"/>
            <a:ext cx="11905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15716"/>
          <p:cNvSpPr/>
          <p:nvPr/>
        </p:nvSpPr>
        <p:spPr>
          <a:xfrm>
            <a:off x="3203640" y="2781360"/>
            <a:ext cx="18860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15717"/>
          <p:cNvSpPr/>
          <p:nvPr/>
        </p:nvSpPr>
        <p:spPr>
          <a:xfrm>
            <a:off x="2340000" y="3255840"/>
            <a:ext cx="46576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115718"/>
          <p:cNvSpPr/>
          <p:nvPr/>
        </p:nvSpPr>
        <p:spPr>
          <a:xfrm>
            <a:off x="6797520" y="3726000"/>
            <a:ext cx="11908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115719"/>
          <p:cNvSpPr/>
          <p:nvPr/>
        </p:nvSpPr>
        <p:spPr>
          <a:xfrm>
            <a:off x="2050920" y="4216320"/>
            <a:ext cx="11908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4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2" name="图片 114689" descr=""/>
          <p:cNvPicPr/>
          <p:nvPr/>
        </p:nvPicPr>
        <p:blipFill>
          <a:blip r:embed="rId1"/>
          <a:stretch/>
        </p:blipFill>
        <p:spPr>
          <a:xfrm>
            <a:off x="523800" y="1461960"/>
            <a:ext cx="8096400" cy="3934080"/>
          </a:xfrm>
          <a:prstGeom prst="rect">
            <a:avLst/>
          </a:prstGeom>
          <a:ln w="0">
            <a:noFill/>
          </a:ln>
        </p:spPr>
      </p:pic>
      <p:sp>
        <p:nvSpPr>
          <p:cNvPr id="1513" name="矩形 114690"/>
          <p:cNvSpPr/>
          <p:nvPr/>
        </p:nvSpPr>
        <p:spPr>
          <a:xfrm>
            <a:off x="7834320" y="403848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图片 113665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72200" cy="5248440"/>
          </a:xfrm>
          <a:prstGeom prst="rect">
            <a:avLst/>
          </a:prstGeom>
          <a:ln w="0">
            <a:noFill/>
          </a:ln>
        </p:spPr>
      </p:pic>
      <p:sp>
        <p:nvSpPr>
          <p:cNvPr id="1515" name="矩形 113666"/>
          <p:cNvSpPr/>
          <p:nvPr/>
        </p:nvSpPr>
        <p:spPr>
          <a:xfrm>
            <a:off x="2557440" y="332424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矩形 113667"/>
          <p:cNvSpPr/>
          <p:nvPr/>
        </p:nvSpPr>
        <p:spPr>
          <a:xfrm>
            <a:off x="4140360" y="3313080"/>
            <a:ext cx="5140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矩形 113668"/>
          <p:cNvSpPr/>
          <p:nvPr/>
        </p:nvSpPr>
        <p:spPr>
          <a:xfrm>
            <a:off x="5724360" y="3338640"/>
            <a:ext cx="5144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矩形 113669"/>
          <p:cNvSpPr/>
          <p:nvPr/>
        </p:nvSpPr>
        <p:spPr>
          <a:xfrm>
            <a:off x="7351560" y="3348000"/>
            <a:ext cx="5144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矩形 113670"/>
          <p:cNvSpPr/>
          <p:nvPr/>
        </p:nvSpPr>
        <p:spPr>
          <a:xfrm>
            <a:off x="5580000" y="4289400"/>
            <a:ext cx="2409840" cy="55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3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0" name="图片 112641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876840" cy="933480"/>
          </a:xfrm>
          <a:prstGeom prst="rect">
            <a:avLst/>
          </a:prstGeom>
          <a:ln w="0">
            <a:noFill/>
          </a:ln>
        </p:spPr>
      </p:pic>
      <p:pic>
        <p:nvPicPr>
          <p:cNvPr id="1521" name="图片 112642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7686720" cy="2067120"/>
          </a:xfrm>
          <a:prstGeom prst="rect">
            <a:avLst/>
          </a:prstGeom>
          <a:ln w="0">
            <a:noFill/>
          </a:ln>
        </p:spPr>
      </p:pic>
      <p:pic>
        <p:nvPicPr>
          <p:cNvPr id="1522" name="图片 112643" descr=""/>
          <p:cNvPicPr/>
          <p:nvPr/>
        </p:nvPicPr>
        <p:blipFill>
          <a:blip r:embed="rId3"/>
          <a:stretch/>
        </p:blipFill>
        <p:spPr>
          <a:xfrm>
            <a:off x="401760" y="4019400"/>
            <a:ext cx="7667640" cy="1543320"/>
          </a:xfrm>
          <a:prstGeom prst="rect">
            <a:avLst/>
          </a:prstGeom>
          <a:ln w="0">
            <a:noFill/>
          </a:ln>
        </p:spPr>
      </p:pic>
      <p:sp>
        <p:nvSpPr>
          <p:cNvPr id="1523" name="矩形 112644"/>
          <p:cNvSpPr/>
          <p:nvPr/>
        </p:nvSpPr>
        <p:spPr>
          <a:xfrm>
            <a:off x="1204920" y="242892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矩形 112645"/>
          <p:cNvSpPr/>
          <p:nvPr/>
        </p:nvSpPr>
        <p:spPr>
          <a:xfrm>
            <a:off x="3257640" y="2406600"/>
            <a:ext cx="485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矩形 112646"/>
          <p:cNvSpPr/>
          <p:nvPr/>
        </p:nvSpPr>
        <p:spPr>
          <a:xfrm>
            <a:off x="5148360" y="242100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矩形 112647"/>
          <p:cNvSpPr/>
          <p:nvPr/>
        </p:nvSpPr>
        <p:spPr>
          <a:xfrm>
            <a:off x="7093080" y="2421000"/>
            <a:ext cx="3902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矩形 112653"/>
          <p:cNvSpPr/>
          <p:nvPr/>
        </p:nvSpPr>
        <p:spPr>
          <a:xfrm>
            <a:off x="1192320" y="2943360"/>
            <a:ext cx="3902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矩形 112654"/>
          <p:cNvSpPr/>
          <p:nvPr/>
        </p:nvSpPr>
        <p:spPr>
          <a:xfrm>
            <a:off x="3244680" y="292104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矩形 112655"/>
          <p:cNvSpPr/>
          <p:nvPr/>
        </p:nvSpPr>
        <p:spPr>
          <a:xfrm>
            <a:off x="5135400" y="2935440"/>
            <a:ext cx="5619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矩形 112656"/>
          <p:cNvSpPr/>
          <p:nvPr/>
        </p:nvSpPr>
        <p:spPr>
          <a:xfrm>
            <a:off x="7080120" y="2935440"/>
            <a:ext cx="5335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矩形 112657"/>
          <p:cNvSpPr/>
          <p:nvPr/>
        </p:nvSpPr>
        <p:spPr>
          <a:xfrm>
            <a:off x="1177920" y="3490920"/>
            <a:ext cx="647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矩形 112658"/>
          <p:cNvSpPr/>
          <p:nvPr/>
        </p:nvSpPr>
        <p:spPr>
          <a:xfrm>
            <a:off x="3240000" y="347832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矩形 112659"/>
          <p:cNvSpPr/>
          <p:nvPr/>
        </p:nvSpPr>
        <p:spPr>
          <a:xfrm>
            <a:off x="5130720" y="349236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矩形 112660"/>
          <p:cNvSpPr/>
          <p:nvPr/>
        </p:nvSpPr>
        <p:spPr>
          <a:xfrm>
            <a:off x="7075440" y="349236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矩形 112661"/>
          <p:cNvSpPr/>
          <p:nvPr/>
        </p:nvSpPr>
        <p:spPr>
          <a:xfrm>
            <a:off x="1187280" y="407664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矩形 112662"/>
          <p:cNvSpPr/>
          <p:nvPr/>
        </p:nvSpPr>
        <p:spPr>
          <a:xfrm>
            <a:off x="3240000" y="405432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矩形 112663"/>
          <p:cNvSpPr/>
          <p:nvPr/>
        </p:nvSpPr>
        <p:spPr>
          <a:xfrm>
            <a:off x="5130720" y="4068720"/>
            <a:ext cx="5810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矩形 112664"/>
          <p:cNvSpPr/>
          <p:nvPr/>
        </p:nvSpPr>
        <p:spPr>
          <a:xfrm>
            <a:off x="7075440" y="406872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矩形 112665"/>
          <p:cNvSpPr/>
          <p:nvPr/>
        </p:nvSpPr>
        <p:spPr>
          <a:xfrm>
            <a:off x="1187280" y="4581360"/>
            <a:ext cx="581040" cy="3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矩形 112666"/>
          <p:cNvSpPr/>
          <p:nvPr/>
        </p:nvSpPr>
        <p:spPr>
          <a:xfrm>
            <a:off x="3240000" y="4559400"/>
            <a:ext cx="5810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矩形 112667"/>
          <p:cNvSpPr/>
          <p:nvPr/>
        </p:nvSpPr>
        <p:spPr>
          <a:xfrm>
            <a:off x="5130720" y="4573440"/>
            <a:ext cx="5810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矩形 112668"/>
          <p:cNvSpPr/>
          <p:nvPr/>
        </p:nvSpPr>
        <p:spPr>
          <a:xfrm>
            <a:off x="7075440" y="4573440"/>
            <a:ext cx="5810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矩形 112669"/>
          <p:cNvSpPr/>
          <p:nvPr/>
        </p:nvSpPr>
        <p:spPr>
          <a:xfrm>
            <a:off x="1187280" y="5129280"/>
            <a:ext cx="5810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矩形 112670"/>
          <p:cNvSpPr/>
          <p:nvPr/>
        </p:nvSpPr>
        <p:spPr>
          <a:xfrm>
            <a:off x="3211560" y="5145120"/>
            <a:ext cx="5810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矩形 112671"/>
          <p:cNvSpPr/>
          <p:nvPr/>
        </p:nvSpPr>
        <p:spPr>
          <a:xfrm>
            <a:off x="5130720" y="5121360"/>
            <a:ext cx="5810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矩形 112672"/>
          <p:cNvSpPr/>
          <p:nvPr/>
        </p:nvSpPr>
        <p:spPr>
          <a:xfrm>
            <a:off x="7075440" y="5149800"/>
            <a:ext cx="5810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0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1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5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0" dur="1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5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0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5" dur="1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0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5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0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5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0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5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0" dur="1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5" dur="1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0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5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0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5" dur="1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0" dur="1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5" dur="1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0" dur="1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124929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44080" cy="5467320"/>
          </a:xfrm>
          <a:prstGeom prst="rect">
            <a:avLst/>
          </a:prstGeom>
          <a:ln w="0">
            <a:noFill/>
          </a:ln>
        </p:spPr>
      </p:pic>
      <p:sp>
        <p:nvSpPr>
          <p:cNvPr id="1435" name="矩形 124930"/>
          <p:cNvSpPr/>
          <p:nvPr/>
        </p:nvSpPr>
        <p:spPr>
          <a:xfrm>
            <a:off x="2597040" y="1924200"/>
            <a:ext cx="87624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1"/>
          <p:cNvSpPr/>
          <p:nvPr/>
        </p:nvSpPr>
        <p:spPr>
          <a:xfrm>
            <a:off x="4140360" y="1916280"/>
            <a:ext cx="110484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2"/>
          <p:cNvSpPr/>
          <p:nvPr/>
        </p:nvSpPr>
        <p:spPr>
          <a:xfrm>
            <a:off x="7053120" y="2276640"/>
            <a:ext cx="35244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3"/>
          <p:cNvSpPr/>
          <p:nvPr/>
        </p:nvSpPr>
        <p:spPr>
          <a:xfrm>
            <a:off x="8028000" y="2276640"/>
            <a:ext cx="35244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4"/>
          <p:cNvSpPr/>
          <p:nvPr/>
        </p:nvSpPr>
        <p:spPr>
          <a:xfrm>
            <a:off x="1332000" y="2637000"/>
            <a:ext cx="35244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5"/>
          <p:cNvSpPr/>
          <p:nvPr/>
        </p:nvSpPr>
        <p:spPr>
          <a:xfrm>
            <a:off x="2195640" y="2637000"/>
            <a:ext cx="35244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6"/>
          <p:cNvSpPr/>
          <p:nvPr/>
        </p:nvSpPr>
        <p:spPr>
          <a:xfrm>
            <a:off x="8037360" y="2665440"/>
            <a:ext cx="3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4937"/>
          <p:cNvSpPr/>
          <p:nvPr/>
        </p:nvSpPr>
        <p:spPr>
          <a:xfrm>
            <a:off x="1268280" y="3025800"/>
            <a:ext cx="3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4938"/>
          <p:cNvSpPr/>
          <p:nvPr/>
        </p:nvSpPr>
        <p:spPr>
          <a:xfrm>
            <a:off x="2205000" y="3025800"/>
            <a:ext cx="3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4939"/>
          <p:cNvSpPr/>
          <p:nvPr/>
        </p:nvSpPr>
        <p:spPr>
          <a:xfrm>
            <a:off x="3068640" y="3025800"/>
            <a:ext cx="3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4940"/>
          <p:cNvSpPr/>
          <p:nvPr/>
        </p:nvSpPr>
        <p:spPr>
          <a:xfrm>
            <a:off x="2916360" y="3400560"/>
            <a:ext cx="67608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4941"/>
          <p:cNvSpPr/>
          <p:nvPr/>
        </p:nvSpPr>
        <p:spPr>
          <a:xfrm>
            <a:off x="6948360" y="3400560"/>
            <a:ext cx="90504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4942"/>
          <p:cNvSpPr/>
          <p:nvPr/>
        </p:nvSpPr>
        <p:spPr>
          <a:xfrm>
            <a:off x="3132000" y="3770280"/>
            <a:ext cx="12002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4943"/>
          <p:cNvSpPr/>
          <p:nvPr/>
        </p:nvSpPr>
        <p:spPr>
          <a:xfrm>
            <a:off x="6823080" y="4130640"/>
            <a:ext cx="676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4944"/>
          <p:cNvSpPr/>
          <p:nvPr/>
        </p:nvSpPr>
        <p:spPr>
          <a:xfrm>
            <a:off x="2627280" y="4508640"/>
            <a:ext cx="67644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4945"/>
          <p:cNvSpPr/>
          <p:nvPr/>
        </p:nvSpPr>
        <p:spPr>
          <a:xfrm>
            <a:off x="3914640" y="4498920"/>
            <a:ext cx="676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24946"/>
          <p:cNvSpPr/>
          <p:nvPr/>
        </p:nvSpPr>
        <p:spPr>
          <a:xfrm>
            <a:off x="4643280" y="5229360"/>
            <a:ext cx="67644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24947"/>
          <p:cNvSpPr/>
          <p:nvPr/>
        </p:nvSpPr>
        <p:spPr>
          <a:xfrm>
            <a:off x="2771640" y="5608800"/>
            <a:ext cx="67644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24948"/>
          <p:cNvSpPr/>
          <p:nvPr/>
        </p:nvSpPr>
        <p:spPr>
          <a:xfrm>
            <a:off x="5435640" y="5608800"/>
            <a:ext cx="67608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24949"/>
          <p:cNvSpPr/>
          <p:nvPr/>
        </p:nvSpPr>
        <p:spPr>
          <a:xfrm>
            <a:off x="4788000" y="5983200"/>
            <a:ext cx="923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124950"/>
          <p:cNvSpPr/>
          <p:nvPr/>
        </p:nvSpPr>
        <p:spPr>
          <a:xfrm>
            <a:off x="6948360" y="5978520"/>
            <a:ext cx="14288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123905" descr=""/>
          <p:cNvPicPr/>
          <p:nvPr/>
        </p:nvPicPr>
        <p:blipFill>
          <a:blip r:embed="rId1"/>
          <a:stretch/>
        </p:blipFill>
        <p:spPr>
          <a:xfrm>
            <a:off x="385920" y="1133640"/>
            <a:ext cx="8372160" cy="4590720"/>
          </a:xfrm>
          <a:prstGeom prst="rect">
            <a:avLst/>
          </a:prstGeom>
          <a:ln w="0">
            <a:noFill/>
          </a:ln>
        </p:spPr>
      </p:pic>
      <p:sp>
        <p:nvSpPr>
          <p:cNvPr id="1457" name="矩形 123906"/>
          <p:cNvSpPr/>
          <p:nvPr/>
        </p:nvSpPr>
        <p:spPr>
          <a:xfrm>
            <a:off x="8205840" y="2847960"/>
            <a:ext cx="3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23907"/>
          <p:cNvSpPr/>
          <p:nvPr/>
        </p:nvSpPr>
        <p:spPr>
          <a:xfrm>
            <a:off x="8172360" y="3933720"/>
            <a:ext cx="3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122881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53440" cy="5238720"/>
          </a:xfrm>
          <a:prstGeom prst="rect">
            <a:avLst/>
          </a:prstGeom>
          <a:ln w="0">
            <a:noFill/>
          </a:ln>
        </p:spPr>
      </p:pic>
      <p:sp>
        <p:nvSpPr>
          <p:cNvPr id="1460" name="矩形 122882"/>
          <p:cNvSpPr/>
          <p:nvPr/>
        </p:nvSpPr>
        <p:spPr>
          <a:xfrm>
            <a:off x="4471920" y="2038320"/>
            <a:ext cx="7714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22883"/>
          <p:cNvSpPr/>
          <p:nvPr/>
        </p:nvSpPr>
        <p:spPr>
          <a:xfrm>
            <a:off x="4233960" y="2419200"/>
            <a:ext cx="3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22884"/>
          <p:cNvSpPr/>
          <p:nvPr/>
        </p:nvSpPr>
        <p:spPr>
          <a:xfrm>
            <a:off x="1187280" y="3141720"/>
            <a:ext cx="35910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22885"/>
          <p:cNvSpPr/>
          <p:nvPr/>
        </p:nvSpPr>
        <p:spPr>
          <a:xfrm>
            <a:off x="8172360" y="4005360"/>
            <a:ext cx="3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22886"/>
          <p:cNvSpPr/>
          <p:nvPr/>
        </p:nvSpPr>
        <p:spPr>
          <a:xfrm>
            <a:off x="2157480" y="5065560"/>
            <a:ext cx="3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22887"/>
          <p:cNvSpPr/>
          <p:nvPr/>
        </p:nvSpPr>
        <p:spPr>
          <a:xfrm>
            <a:off x="4826160" y="5075280"/>
            <a:ext cx="4665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22888"/>
          <p:cNvSpPr/>
          <p:nvPr/>
        </p:nvSpPr>
        <p:spPr>
          <a:xfrm>
            <a:off x="7740720" y="5084640"/>
            <a:ext cx="4665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22889"/>
          <p:cNvSpPr/>
          <p:nvPr/>
        </p:nvSpPr>
        <p:spPr>
          <a:xfrm>
            <a:off x="1476360" y="5445000"/>
            <a:ext cx="30765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22890"/>
          <p:cNvSpPr/>
          <p:nvPr/>
        </p:nvSpPr>
        <p:spPr>
          <a:xfrm>
            <a:off x="6948360" y="5445000"/>
            <a:ext cx="12859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22891"/>
          <p:cNvSpPr/>
          <p:nvPr/>
        </p:nvSpPr>
        <p:spPr>
          <a:xfrm>
            <a:off x="1979640" y="5805360"/>
            <a:ext cx="12859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121857" descr=""/>
          <p:cNvPicPr/>
          <p:nvPr/>
        </p:nvPicPr>
        <p:blipFill>
          <a:blip r:embed="rId1"/>
          <a:stretch/>
        </p:blipFill>
        <p:spPr>
          <a:xfrm>
            <a:off x="590400" y="947880"/>
            <a:ext cx="7963200" cy="4962240"/>
          </a:xfrm>
          <a:prstGeom prst="rect">
            <a:avLst/>
          </a:prstGeom>
          <a:ln w="0">
            <a:noFill/>
          </a:ln>
        </p:spPr>
      </p:pic>
      <p:sp>
        <p:nvSpPr>
          <p:cNvPr id="1471" name="矩形 121858"/>
          <p:cNvSpPr/>
          <p:nvPr/>
        </p:nvSpPr>
        <p:spPr>
          <a:xfrm>
            <a:off x="7786800" y="3095640"/>
            <a:ext cx="3902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21859"/>
          <p:cNvSpPr/>
          <p:nvPr/>
        </p:nvSpPr>
        <p:spPr>
          <a:xfrm>
            <a:off x="7812000" y="4581360"/>
            <a:ext cx="390600" cy="3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120833" descr=""/>
          <p:cNvPicPr/>
          <p:nvPr/>
        </p:nvPicPr>
        <p:blipFill>
          <a:blip r:embed="rId1"/>
          <a:stretch/>
        </p:blipFill>
        <p:spPr>
          <a:xfrm>
            <a:off x="538200" y="1666800"/>
            <a:ext cx="8067600" cy="3524400"/>
          </a:xfrm>
          <a:prstGeom prst="rect">
            <a:avLst/>
          </a:prstGeom>
          <a:ln w="0">
            <a:noFill/>
          </a:ln>
        </p:spPr>
      </p:pic>
      <p:sp>
        <p:nvSpPr>
          <p:cNvPr id="1474" name="矩形 120834"/>
          <p:cNvSpPr/>
          <p:nvPr/>
        </p:nvSpPr>
        <p:spPr>
          <a:xfrm>
            <a:off x="7796160" y="167652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20835"/>
          <p:cNvSpPr/>
          <p:nvPr/>
        </p:nvSpPr>
        <p:spPr>
          <a:xfrm>
            <a:off x="7812000" y="321300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119809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10720" cy="5838840"/>
          </a:xfrm>
          <a:prstGeom prst="rect">
            <a:avLst/>
          </a:prstGeom>
          <a:ln w="0">
            <a:noFill/>
          </a:ln>
        </p:spPr>
      </p:pic>
      <p:sp>
        <p:nvSpPr>
          <p:cNvPr id="1477" name="矩形 119810"/>
          <p:cNvSpPr/>
          <p:nvPr/>
        </p:nvSpPr>
        <p:spPr>
          <a:xfrm>
            <a:off x="7812000" y="126828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9811"/>
          <p:cNvSpPr/>
          <p:nvPr/>
        </p:nvSpPr>
        <p:spPr>
          <a:xfrm>
            <a:off x="7812000" y="429264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118785" descr=""/>
          <p:cNvPicPr/>
          <p:nvPr/>
        </p:nvPicPr>
        <p:blipFill>
          <a:blip r:embed="rId1"/>
          <a:stretch/>
        </p:blipFill>
        <p:spPr>
          <a:xfrm>
            <a:off x="947880" y="1714680"/>
            <a:ext cx="7248240" cy="3429000"/>
          </a:xfrm>
          <a:prstGeom prst="rect">
            <a:avLst/>
          </a:prstGeom>
          <a:ln w="0">
            <a:noFill/>
          </a:ln>
        </p:spPr>
      </p:pic>
      <p:sp>
        <p:nvSpPr>
          <p:cNvPr id="1480" name="矩形 118786"/>
          <p:cNvSpPr/>
          <p:nvPr/>
        </p:nvSpPr>
        <p:spPr>
          <a:xfrm>
            <a:off x="6910560" y="2257560"/>
            <a:ext cx="4759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8787"/>
          <p:cNvSpPr/>
          <p:nvPr/>
        </p:nvSpPr>
        <p:spPr>
          <a:xfrm>
            <a:off x="6948360" y="2708280"/>
            <a:ext cx="476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8788"/>
          <p:cNvSpPr/>
          <p:nvPr/>
        </p:nvSpPr>
        <p:spPr>
          <a:xfrm>
            <a:off x="6516720" y="3241800"/>
            <a:ext cx="6001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8789"/>
          <p:cNvSpPr/>
          <p:nvPr/>
        </p:nvSpPr>
        <p:spPr>
          <a:xfrm>
            <a:off x="6084720" y="3716280"/>
            <a:ext cx="6001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8790"/>
          <p:cNvSpPr/>
          <p:nvPr/>
        </p:nvSpPr>
        <p:spPr>
          <a:xfrm>
            <a:off x="6804000" y="4221000"/>
            <a:ext cx="6001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8791"/>
          <p:cNvSpPr/>
          <p:nvPr/>
        </p:nvSpPr>
        <p:spPr>
          <a:xfrm>
            <a:off x="6443640" y="4724280"/>
            <a:ext cx="6001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图片 117761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010360" cy="1942920"/>
          </a:xfrm>
          <a:prstGeom prst="rect">
            <a:avLst/>
          </a:prstGeom>
          <a:ln w="0">
            <a:noFill/>
          </a:ln>
        </p:spPr>
      </p:pic>
      <p:pic>
        <p:nvPicPr>
          <p:cNvPr id="1487" name="图片 117762" descr=""/>
          <p:cNvPicPr/>
          <p:nvPr/>
        </p:nvPicPr>
        <p:blipFill>
          <a:blip r:embed="rId2"/>
          <a:stretch/>
        </p:blipFill>
        <p:spPr>
          <a:xfrm>
            <a:off x="1085760" y="2795760"/>
            <a:ext cx="6943680" cy="3838320"/>
          </a:xfrm>
          <a:prstGeom prst="rect">
            <a:avLst/>
          </a:prstGeom>
          <a:ln w="0">
            <a:noFill/>
          </a:ln>
        </p:spPr>
      </p:pic>
      <p:sp>
        <p:nvSpPr>
          <p:cNvPr id="1488" name="矩形 117763"/>
          <p:cNvSpPr/>
          <p:nvPr/>
        </p:nvSpPr>
        <p:spPr>
          <a:xfrm>
            <a:off x="2195640" y="3809880"/>
            <a:ext cx="6379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17764"/>
          <p:cNvSpPr/>
          <p:nvPr/>
        </p:nvSpPr>
        <p:spPr>
          <a:xfrm>
            <a:off x="3995640" y="3284640"/>
            <a:ext cx="638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7765"/>
          <p:cNvSpPr/>
          <p:nvPr/>
        </p:nvSpPr>
        <p:spPr>
          <a:xfrm>
            <a:off x="6732720" y="3789360"/>
            <a:ext cx="6379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7766"/>
          <p:cNvSpPr/>
          <p:nvPr/>
        </p:nvSpPr>
        <p:spPr>
          <a:xfrm>
            <a:off x="1763640" y="4292640"/>
            <a:ext cx="638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7767"/>
          <p:cNvSpPr/>
          <p:nvPr/>
        </p:nvSpPr>
        <p:spPr>
          <a:xfrm>
            <a:off x="6732720" y="4273560"/>
            <a:ext cx="6379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17768"/>
          <p:cNvSpPr/>
          <p:nvPr/>
        </p:nvSpPr>
        <p:spPr>
          <a:xfrm>
            <a:off x="2556000" y="4724280"/>
            <a:ext cx="6379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7769"/>
          <p:cNvSpPr/>
          <p:nvPr/>
        </p:nvSpPr>
        <p:spPr>
          <a:xfrm>
            <a:off x="6300720" y="4724280"/>
            <a:ext cx="638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17770"/>
          <p:cNvSpPr/>
          <p:nvPr/>
        </p:nvSpPr>
        <p:spPr>
          <a:xfrm>
            <a:off x="2843280" y="5205240"/>
            <a:ext cx="638280" cy="3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17771"/>
          <p:cNvSpPr/>
          <p:nvPr/>
        </p:nvSpPr>
        <p:spPr>
          <a:xfrm>
            <a:off x="5992920" y="5257800"/>
            <a:ext cx="6379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17772"/>
          <p:cNvSpPr/>
          <p:nvPr/>
        </p:nvSpPr>
        <p:spPr>
          <a:xfrm>
            <a:off x="2700360" y="5734080"/>
            <a:ext cx="638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17773"/>
          <p:cNvSpPr/>
          <p:nvPr/>
        </p:nvSpPr>
        <p:spPr>
          <a:xfrm>
            <a:off x="6443640" y="5734080"/>
            <a:ext cx="638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17774"/>
          <p:cNvSpPr/>
          <p:nvPr/>
        </p:nvSpPr>
        <p:spPr>
          <a:xfrm>
            <a:off x="2987640" y="6194520"/>
            <a:ext cx="638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17775"/>
          <p:cNvSpPr/>
          <p:nvPr/>
        </p:nvSpPr>
        <p:spPr>
          <a:xfrm>
            <a:off x="5867280" y="6194520"/>
            <a:ext cx="638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5:47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